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1DA1-B0D9-48CC-AA3B-D25FEC3AD88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293C-8166-44B8-BEFB-42F52F356F4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725B-D297-4BC7-BD97-2C758E8305C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BF0F-33C4-4F50-BB53-8C97EB3414F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02C0-A226-4D03-A308-262EC6CCEAA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F54A-AA72-4C9B-BBCA-A04A58A2A72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450D-5638-430B-8DA5-D10E0C991B3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075D-A2FA-4A73-BB0F-D99765AE154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741E-ED55-447C-9AAF-0BC97C47041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FDAF-3E13-43FA-AF06-FB9617EDCFE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F012-C04A-4FCA-A3A5-2F127325623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D202-6317-4D35-9CA0-C7FF9AC241E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4F80-3F52-4971-ADEE-EABF2C08E05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C9F1-BEB6-465F-8B9B-BB7343C236C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20BAC-B386-4A5B-9127-04EA253BAD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9695C-DB5B-4B8F-96DD-ABD34B46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B264F-0584-42B4-9E59-6ABF6066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2D560-BCF9-42E3-A561-E8856F1079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DD024-A58B-437E-B1B8-1B687694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7260C-7A45-4F3C-AFDC-FD0E18D1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9CC0D-D6BB-424B-B058-6C282741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0C035-03EA-4FAD-ACEF-D5D423876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A0C72-68DF-4EED-B268-8915605A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F2B90-DCB8-4C03-A05B-0CF6B57A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89D90-33ED-44C9-80A3-0BB4EB06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80AF8-970B-4AF3-9E7D-16213564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60BC-ACBF-4EF8-82C7-7E66C1D3519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4284720" y="6524640"/>
            <a:ext cx="122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CCB9-55BD-437B-8E40-15BA589B084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659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4356000" y="6524640"/>
            <a:ext cx="12016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F428-75C2-437D-B854-73B56C90C99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88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于胃肠道内尚未吸收的毒物，应尽早给予催吐、洗胃、灌肠、导泻或活性炭吸附等方法清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4572000" y="6524640"/>
            <a:ext cx="115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B5F9-EFE6-42CB-98C0-51501CFB26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4427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CA6A-993B-4A32-8921-0756869EB9C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9B5B-B892-451C-A362-0226346C786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（美蓝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471636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93C0-D86F-4EB1-8F0D-863E1D4C3A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4356000" y="6524640"/>
            <a:ext cx="1079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7A72-0B41-4E55-B4B7-E374FEC3BA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安定、利眠宁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4572000" y="6524640"/>
            <a:ext cx="1008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A2AE-8A5D-43F4-BD31-206C3FA23D8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60C1-7F29-47D9-B6E5-A35A3245289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3C9B-62E7-4411-8172-E8D949A67DB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56760" y="1412640"/>
            <a:ext cx="86108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A1BD-6036-4527-8B42-820B15B38EB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499760"/>
            <a:ext cx="871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3156-8AF5-4FA7-B621-D1E458031E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8920" y="1499760"/>
            <a:ext cx="8788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时内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91C2-D644-4625-B896-F5C0EFEA145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499760"/>
            <a:ext cx="8967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998D-F483-49C3-8081-42CDD1F2301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72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1349-84A3-44B5-B3FE-84BF4AB86DB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线形标注 2 2"/>
          <p:cNvSpPr/>
          <p:nvPr/>
        </p:nvSpPr>
        <p:spPr>
          <a:xfrm>
            <a:off x="3692520" y="1165320"/>
            <a:ext cx="5343480" cy="7570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8361"/>
              <a:gd name="adj6" fmla="val -2556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暂时保护胃黏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线形标注 1 3"/>
          <p:cNvSpPr/>
          <p:nvPr/>
        </p:nvSpPr>
        <p:spPr>
          <a:xfrm>
            <a:off x="3692520" y="1995480"/>
            <a:ext cx="5343480" cy="576360"/>
          </a:xfrm>
          <a:prstGeom prst="borderCallout1">
            <a:avLst>
              <a:gd name="adj1" fmla="val 18750"/>
              <a:gd name="adj2" fmla="val -8333"/>
              <a:gd name="adj3" fmla="val 102564"/>
              <a:gd name="adj4" fmla="val -25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线形标注 1 4"/>
          <p:cNvSpPr/>
          <p:nvPr/>
        </p:nvSpPr>
        <p:spPr>
          <a:xfrm>
            <a:off x="3692520" y="2690640"/>
            <a:ext cx="5343480" cy="1025640"/>
          </a:xfrm>
          <a:prstGeom prst="borderCallout1">
            <a:avLst>
              <a:gd name="adj1" fmla="val 18750"/>
              <a:gd name="adj2" fmla="val -8333"/>
              <a:gd name="adj3" fmla="val 47722"/>
              <a:gd name="adj4" fmla="val -263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线形标注 1 5"/>
          <p:cNvSpPr/>
          <p:nvPr/>
        </p:nvSpPr>
        <p:spPr>
          <a:xfrm>
            <a:off x="3708360" y="3860640"/>
            <a:ext cx="5327640" cy="576360"/>
          </a:xfrm>
          <a:prstGeom prst="borderCallout1">
            <a:avLst>
              <a:gd name="adj1" fmla="val 18750"/>
              <a:gd name="adj2" fmla="val -8333"/>
              <a:gd name="adj3" fmla="val -20291"/>
              <a:gd name="adj4" fmla="val -2573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线形标注 1 6"/>
          <p:cNvSpPr/>
          <p:nvPr/>
        </p:nvSpPr>
        <p:spPr>
          <a:xfrm>
            <a:off x="3708360" y="4653000"/>
            <a:ext cx="5327640" cy="720720"/>
          </a:xfrm>
          <a:prstGeom prst="borderCallout1">
            <a:avLst>
              <a:gd name="adj1" fmla="val 18750"/>
              <a:gd name="adj2" fmla="val -8333"/>
              <a:gd name="adj3" fmla="val -56208"/>
              <a:gd name="adj4" fmla="val -2680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线形标注 1 7"/>
          <p:cNvSpPr/>
          <p:nvPr/>
        </p:nvSpPr>
        <p:spPr>
          <a:xfrm>
            <a:off x="3708360" y="5567400"/>
            <a:ext cx="5316480" cy="828720"/>
          </a:xfrm>
          <a:prstGeom prst="borderCallout1">
            <a:avLst>
              <a:gd name="adj1" fmla="val 18750"/>
              <a:gd name="adj2" fmla="val -8333"/>
              <a:gd name="adj3" fmla="val -79078"/>
              <a:gd name="adj4" fmla="val -3134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7012-F19D-41D0-9943-91116934F56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468360" y="907920"/>
            <a:ext cx="4798800" cy="720360"/>
            <a:chOff x="468360" y="907920"/>
            <a:chExt cx="4798800" cy="720360"/>
          </a:xfrm>
        </p:grpSpPr>
        <p:grpSp>
          <p:nvGrpSpPr>
            <p:cNvPr id="210" name="Group 5"/>
            <p:cNvGrpSpPr/>
            <p:nvPr/>
          </p:nvGrpSpPr>
          <p:grpSpPr>
            <a:xfrm>
              <a:off x="468360" y="907920"/>
              <a:ext cx="761400" cy="720360"/>
              <a:chOff x="468360" y="907920"/>
              <a:chExt cx="761400" cy="72036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74480" y="920160"/>
                <a:ext cx="755280" cy="708120"/>
              </a:xfrm>
              <a:prstGeom prst="hexagon">
                <a:avLst>
                  <a:gd name="adj" fmla="val 2666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468360" y="907920"/>
                <a:ext cx="755640" cy="708120"/>
              </a:xfrm>
              <a:prstGeom prst="hexagon">
                <a:avLst>
                  <a:gd name="adj" fmla="val 2667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68360" y="950400"/>
                <a:ext cx="720720" cy="606240"/>
              </a:xfrm>
              <a:prstGeom prst="hexagon">
                <a:avLst>
                  <a:gd name="adj" fmla="val 2666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476360" y="1052280"/>
              <a:ext cx="379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52680" y="962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468360" y="1700280"/>
            <a:ext cx="4462200" cy="664920"/>
            <a:chOff x="468360" y="1700280"/>
            <a:chExt cx="4462200" cy="664920"/>
          </a:xfrm>
        </p:grpSpPr>
        <p:grpSp>
          <p:nvGrpSpPr>
            <p:cNvPr id="218" name="Group 13"/>
            <p:cNvGrpSpPr/>
            <p:nvPr/>
          </p:nvGrpSpPr>
          <p:grpSpPr>
            <a:xfrm>
              <a:off x="468360" y="1700280"/>
              <a:ext cx="811440" cy="664920"/>
              <a:chOff x="468360" y="1700280"/>
              <a:chExt cx="811440" cy="66492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75200" y="171144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468360" y="170028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515880" y="1739880"/>
                <a:ext cx="705960" cy="574560"/>
              </a:xfrm>
              <a:prstGeom prst="hexagon">
                <a:avLst>
                  <a:gd name="adj" fmla="val 3073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81800" y="2276280"/>
              <a:ext cx="38487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2005920" y="177156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76080" y="1750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468360" y="2492280"/>
            <a:ext cx="4537080" cy="665280"/>
            <a:chOff x="468360" y="2492280"/>
            <a:chExt cx="453708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468360" y="2492280"/>
              <a:ext cx="761400" cy="665280"/>
              <a:chOff x="468360" y="2492280"/>
              <a:chExt cx="76140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74480" y="2503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468360" y="2492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512640" y="2531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44360" y="3068640"/>
              <a:ext cx="396108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2150280" y="2563920"/>
              <a:ext cx="200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652680" y="2543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468360" y="3284640"/>
            <a:ext cx="4534920" cy="664920"/>
            <a:chOff x="468360" y="3284640"/>
            <a:chExt cx="4534920" cy="664920"/>
          </a:xfrm>
        </p:grpSpPr>
        <p:grpSp>
          <p:nvGrpSpPr>
            <p:cNvPr id="234" name="Group 29"/>
            <p:cNvGrpSpPr/>
            <p:nvPr/>
          </p:nvGrpSpPr>
          <p:grpSpPr>
            <a:xfrm>
              <a:off x="468360" y="3284640"/>
              <a:ext cx="810720" cy="664920"/>
              <a:chOff x="468360" y="3284640"/>
              <a:chExt cx="810720" cy="66492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75200" y="329580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468360" y="328464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515880" y="3324240"/>
                <a:ext cx="672480" cy="574560"/>
              </a:xfrm>
              <a:prstGeom prst="hexagon">
                <a:avLst>
                  <a:gd name="adj" fmla="val 3071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1081440" y="3860640"/>
              <a:ext cx="392184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581840" y="3335040"/>
              <a:ext cx="1954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675720" y="333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468360" y="4076640"/>
            <a:ext cx="4534920" cy="665280"/>
            <a:chOff x="468360" y="4076640"/>
            <a:chExt cx="453492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468360" y="4076640"/>
              <a:ext cx="798120" cy="665280"/>
              <a:chOff x="468360" y="4076640"/>
              <a:chExt cx="79812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74840" y="4087800"/>
                <a:ext cx="791640" cy="654120"/>
              </a:xfrm>
              <a:prstGeom prst="hexagon">
                <a:avLst>
                  <a:gd name="adj" fmla="val 302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468360" y="4076640"/>
                <a:ext cx="792000" cy="654120"/>
              </a:xfrm>
              <a:prstGeom prst="hexagon">
                <a:avLst>
                  <a:gd name="adj" fmla="val 3027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514080" y="4116240"/>
                <a:ext cx="694800" cy="574920"/>
              </a:xfrm>
              <a:prstGeom prst="hexagon">
                <a:avLst>
                  <a:gd name="adj" fmla="val 3022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1072080" y="4653000"/>
              <a:ext cx="39312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564920" y="4148280"/>
              <a:ext cx="19260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669960" y="4127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468360" y="4869000"/>
            <a:ext cx="4608360" cy="664920"/>
            <a:chOff x="468360" y="4869000"/>
            <a:chExt cx="4608360" cy="664920"/>
          </a:xfrm>
        </p:grpSpPr>
        <p:grpSp>
          <p:nvGrpSpPr>
            <p:cNvPr id="250" name="Group 45"/>
            <p:cNvGrpSpPr/>
            <p:nvPr/>
          </p:nvGrpSpPr>
          <p:grpSpPr>
            <a:xfrm>
              <a:off x="468360" y="4869000"/>
              <a:ext cx="761400" cy="664920"/>
              <a:chOff x="468360" y="4869000"/>
              <a:chExt cx="761400" cy="66492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74480" y="48801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468360" y="48690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512640" y="49086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4360" y="544500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2255760" y="491940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52680" y="49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矩形 55"/>
          <p:cNvSpPr/>
          <p:nvPr/>
        </p:nvSpPr>
        <p:spPr>
          <a:xfrm>
            <a:off x="1403280" y="3284640"/>
            <a:ext cx="42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6"/>
          <p:cNvSpPr/>
          <p:nvPr/>
        </p:nvSpPr>
        <p:spPr>
          <a:xfrm>
            <a:off x="1403280" y="407664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44"/>
          <p:cNvGrpSpPr/>
          <p:nvPr/>
        </p:nvGrpSpPr>
        <p:grpSpPr>
          <a:xfrm>
            <a:off x="468360" y="5732640"/>
            <a:ext cx="4608360" cy="666000"/>
            <a:chOff x="468360" y="5732640"/>
            <a:chExt cx="4608360" cy="666000"/>
          </a:xfrm>
        </p:grpSpPr>
        <p:grpSp>
          <p:nvGrpSpPr>
            <p:cNvPr id="260" name="Group 45"/>
            <p:cNvGrpSpPr/>
            <p:nvPr/>
          </p:nvGrpSpPr>
          <p:grpSpPr>
            <a:xfrm>
              <a:off x="468360" y="5732640"/>
              <a:ext cx="761400" cy="666000"/>
              <a:chOff x="468360" y="5732640"/>
              <a:chExt cx="761400" cy="666000"/>
            </a:xfrm>
          </p:grpSpPr>
          <p:sp>
            <p:nvSpPr>
              <p:cNvPr id="261" name="AutoShape 46"/>
              <p:cNvSpPr/>
              <p:nvPr/>
            </p:nvSpPr>
            <p:spPr>
              <a:xfrm>
                <a:off x="474480" y="5743800"/>
                <a:ext cx="755280" cy="654840"/>
              </a:xfrm>
              <a:prstGeom prst="hexagon">
                <a:avLst>
                  <a:gd name="adj" fmla="val 2883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47"/>
              <p:cNvSpPr/>
              <p:nvPr/>
            </p:nvSpPr>
            <p:spPr>
              <a:xfrm>
                <a:off x="468360" y="5732640"/>
                <a:ext cx="755640" cy="654840"/>
              </a:xfrm>
              <a:prstGeom prst="hexagon">
                <a:avLst>
                  <a:gd name="adj" fmla="val 2884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48"/>
              <p:cNvSpPr/>
              <p:nvPr/>
            </p:nvSpPr>
            <p:spPr>
              <a:xfrm>
                <a:off x="512640" y="5771880"/>
                <a:ext cx="663480" cy="576000"/>
              </a:xfrm>
              <a:prstGeom prst="hexagon">
                <a:avLst>
                  <a:gd name="adj" fmla="val 2881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49"/>
            <p:cNvSpPr/>
            <p:nvPr/>
          </p:nvSpPr>
          <p:spPr>
            <a:xfrm>
              <a:off x="1044360" y="631008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50"/>
            <p:cNvSpPr/>
            <p:nvPr/>
          </p:nvSpPr>
          <p:spPr>
            <a:xfrm>
              <a:off x="2097720" y="5783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51"/>
            <p:cNvSpPr/>
            <p:nvPr/>
          </p:nvSpPr>
          <p:spPr>
            <a:xfrm>
              <a:off x="653400" y="578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5E01-3236-4D5D-9CF7-B87711EB8CA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圆角矩形 4"/>
          <p:cNvSpPr/>
          <p:nvPr/>
        </p:nvSpPr>
        <p:spPr>
          <a:xfrm>
            <a:off x="324000" y="2349360"/>
            <a:ext cx="8496000" cy="352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案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6-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小时急诊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紫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催吐和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和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001D-9BAA-49EB-8E89-5537F328A89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24000" y="90792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体液不足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严重呕吐、腹泻导致体液丢失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呼吸道腺体分泌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有机磷毒物累及中枢神经系统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对有机磷杀虫药毒性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肺水肿、呼吸衰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生命体征稳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密切观察病情和生命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24000" y="98100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低效性呼吸型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百草枯作用于呼吸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肾功能障碍、消化道出血、肝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百草枯中毒及相关急救常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清除胃肠道中毒物的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一氧化碳中毒进行高压氧治疗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A04E-B53A-4B4F-AB7D-891362732D1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神经、呼吸、消化等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灭鼠剂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线形标注 2 4"/>
          <p:cNvSpPr/>
          <p:nvPr/>
        </p:nvSpPr>
        <p:spPr>
          <a:xfrm>
            <a:off x="4356000" y="2133720"/>
            <a:ext cx="4608720" cy="10792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74157"/>
              <a:gd name="adj6" fmla="val -2003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线形标注 2 5"/>
          <p:cNvSpPr/>
          <p:nvPr/>
        </p:nvSpPr>
        <p:spPr>
          <a:xfrm>
            <a:off x="4284720" y="3500280"/>
            <a:ext cx="4648320" cy="11509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0097"/>
              <a:gd name="adj6" fmla="val -2310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线形标注 2 6"/>
          <p:cNvSpPr/>
          <p:nvPr/>
        </p:nvSpPr>
        <p:spPr>
          <a:xfrm>
            <a:off x="4211640" y="4869000"/>
            <a:ext cx="4753080" cy="1008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46384"/>
              <a:gd name="adj6" fmla="val -234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碳氧血红蛋白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大脑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心输出量减少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心肌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有中毒后迟发性脑病的危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酒精，学名乙醇，是日常生活中各类酒饮料的主要成分，也可用作医用消毒剂、工业原料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中枢神经系统损害、代谢异常、心脏损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有机磷杀虫药中毒时，遵医嘱应用胆碱酯酶复能剂的用药观察与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75DE-AB44-43B5-A1A6-0300AE8EE5C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酒精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酒精对人体毒性的认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休克，窒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密切观察病情变化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镇静催眠药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呼吸抑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5"/>
          <p:cNvSpPr/>
          <p:nvPr/>
        </p:nvSpPr>
        <p:spPr>
          <a:xfrm>
            <a:off x="4067280" y="6524640"/>
            <a:ext cx="11318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DBDD-01A1-4BA8-88D5-EB2A84708A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785600"/>
            <a:ext cx="829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接触眼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吸入强酸、强碱烟雾后致使气道黏膜充血、水肿及浆液性分泌物过多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皮肤完整性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酸、强碱刺激皮肤黏膜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自我形象紊乱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腐蚀性毒物造成皮肤黏膜损害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焦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担心疾病预后、费用昂贵等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强酸、强碱急救常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线形标注 1 4"/>
          <p:cNvSpPr/>
          <p:nvPr/>
        </p:nvSpPr>
        <p:spPr>
          <a:xfrm>
            <a:off x="3419640" y="1125360"/>
            <a:ext cx="5545080" cy="3672000"/>
          </a:xfrm>
          <a:prstGeom prst="borderCallout1">
            <a:avLst>
              <a:gd name="adj1" fmla="val 18750"/>
              <a:gd name="adj2" fmla="val -8333"/>
              <a:gd name="adj3" fmla="val 46750"/>
              <a:gd name="adj4" fmla="val -1643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线形标注 1 5"/>
          <p:cNvSpPr/>
          <p:nvPr/>
        </p:nvSpPr>
        <p:spPr>
          <a:xfrm>
            <a:off x="2987640" y="2205000"/>
            <a:ext cx="6156360" cy="3960720"/>
          </a:xfrm>
          <a:prstGeom prst="borderCallout1">
            <a:avLst>
              <a:gd name="adj1" fmla="val 18750"/>
              <a:gd name="adj2" fmla="val -8333"/>
              <a:gd name="adj3" fmla="val 34902"/>
              <a:gd name="adj4" fmla="val -1531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4284720" y="6524640"/>
            <a:ext cx="122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7DCE-1654-4A61-ACD3-CC1BEA72D55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1508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现场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跳呼吸骤停者，立即给予现场心肺复苏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5"/>
          <p:cNvSpPr/>
          <p:nvPr/>
        </p:nvSpPr>
        <p:spPr>
          <a:xfrm>
            <a:off x="4427640" y="6524640"/>
            <a:ext cx="9144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70F7-A292-422D-AB61-02437BD79D0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 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（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6-1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39640" y="2133720"/>
          <a:ext cx="7704360" cy="2666880"/>
        </p:xfrm>
        <a:graphic>
          <a:graphicData uri="http://schemas.openxmlformats.org/drawingml/2006/table">
            <a:tbl>
              <a:tblPr/>
              <a:tblGrid>
                <a:gridCol w="3853080"/>
                <a:gridCol w="3851280"/>
              </a:tblGrid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乙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2484360" y="155736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6-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23:25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